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C70F-0CA2-452B-BB44-44669C91F6D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6E68-5759-4962-8B7C-4FDBB37F4AEB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B53C-37E4-47DF-8CE5-DC1B5DA1B185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40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682880"/>
            <a:ext cx="50292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Line 51"/>
          <p:cNvSpPr/>
          <p:nvPr/>
        </p:nvSpPr>
        <p:spPr>
          <a:xfrm>
            <a:off x="0" y="1143000"/>
            <a:ext cx="8610480" cy="0"/>
          </a:xfrm>
          <a:prstGeom prst="line">
            <a:avLst/>
          </a:prstGeom>
          <a:ln w="12600">
            <a:solidFill>
              <a:srgbClr val="3d85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Line 54"/>
          <p:cNvSpPr/>
          <p:nvPr/>
        </p:nvSpPr>
        <p:spPr>
          <a:xfrm>
            <a:off x="0" y="6095880"/>
            <a:ext cx="8610480" cy="0"/>
          </a:xfrm>
          <a:prstGeom prst="line">
            <a:avLst/>
          </a:prstGeom>
          <a:ln w="12600">
            <a:solidFill>
              <a:srgbClr val="3d85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58"/>
          <p:cNvSpPr/>
          <p:nvPr/>
        </p:nvSpPr>
        <p:spPr>
          <a:xfrm>
            <a:off x="7034760" y="6324480"/>
            <a:ext cx="17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olie: </a:t>
            </a:r>
            <a:fld id="{E0E432EC-D80F-4AFE-B1CA-C46090DBCCF3}" type="slidenum">
              <a:rPr b="0" lang="de-DE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64"/>
          <p:cNvSpPr/>
          <p:nvPr/>
        </p:nvSpPr>
        <p:spPr>
          <a:xfrm>
            <a:off x="6844680" y="68580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63a0"/>
                </a:solidFill>
                <a:latin typeface="Verdana"/>
              </a:rPr>
              <a:t>sigs-datacom.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65" descr=""/>
          <p:cNvPicPr/>
          <p:nvPr/>
        </p:nvPicPr>
        <p:blipFill>
          <a:blip r:embed="rId2"/>
          <a:stretch/>
        </p:blipFill>
        <p:spPr>
          <a:xfrm>
            <a:off x="6705720" y="152280"/>
            <a:ext cx="198108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67"/>
          <p:cNvSpPr/>
          <p:nvPr/>
        </p:nvSpPr>
        <p:spPr>
          <a:xfrm>
            <a:off x="304920" y="632412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Bernd Marquardt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2"/>
          <p:cNvSpPr/>
          <p:nvPr/>
        </p:nvSpPr>
        <p:spPr>
          <a:xfrm>
            <a:off x="0" y="1143000"/>
            <a:ext cx="8610480" cy="0"/>
          </a:xfrm>
          <a:prstGeom prst="line">
            <a:avLst/>
          </a:prstGeom>
          <a:ln w="12600">
            <a:solidFill>
              <a:srgbClr val="3d85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Line 57"/>
          <p:cNvSpPr/>
          <p:nvPr/>
        </p:nvSpPr>
        <p:spPr>
          <a:xfrm>
            <a:off x="0" y="6095880"/>
            <a:ext cx="8610480" cy="0"/>
          </a:xfrm>
          <a:prstGeom prst="line">
            <a:avLst/>
          </a:prstGeom>
          <a:ln w="12600">
            <a:solidFill>
              <a:srgbClr val="3d85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59"/>
          <p:cNvSpPr/>
          <p:nvPr/>
        </p:nvSpPr>
        <p:spPr>
          <a:xfrm>
            <a:off x="6844680" y="68580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63a0"/>
                </a:solidFill>
                <a:latin typeface="Verdana"/>
              </a:rPr>
              <a:t>sigs-datacom.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60"/>
          <p:cNvSpPr/>
          <p:nvPr/>
        </p:nvSpPr>
        <p:spPr>
          <a:xfrm>
            <a:off x="2430720" y="624852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63a0"/>
                </a:solidFill>
                <a:latin typeface="Verdana"/>
              </a:rPr>
              <a:t>Events · Solutions · Publ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61" descr=""/>
          <p:cNvPicPr/>
          <p:nvPr/>
        </p:nvPicPr>
        <p:blipFill>
          <a:blip r:embed="rId2"/>
          <a:stretch/>
        </p:blipFill>
        <p:spPr>
          <a:xfrm>
            <a:off x="6705720" y="152280"/>
            <a:ext cx="1981080" cy="615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7" descr="logo groß 15prozent"/>
          <p:cNvPicPr/>
          <p:nvPr/>
        </p:nvPicPr>
        <p:blipFill>
          <a:blip r:embed="rId3"/>
          <a:stretch/>
        </p:blipFill>
        <p:spPr>
          <a:xfrm>
            <a:off x="533520" y="2590920"/>
            <a:ext cx="8001000" cy="2508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905120"/>
            <a:ext cx="80769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ultithreading mit .NET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Bernd Marquard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Software &amp; Consult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C++ MVP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12280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as ist ein Thread?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42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Jeder Thread hat seinen eigenen Stac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Threads können jedoch auch globale Resourcen des Programms gemeinsam nutz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Jeder Thread hat eine bestimmte Prioritä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as Betriebssystem vergibt über die Priorität entsprechende Zeitscheiben für die Ausführung an den Threa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7044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Threads &amp; Prozessor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77724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n einem Rechner mit mehreren Prozessoren können entsprechend viele Threads tatsächlich gleichzeitig lauf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 Rechner mit zwei Prozessoren ist aber nicht doppelt so schnell, wie sein Ein-Prozessor-Kolleg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CHTUNG: Win95, 98 und ME können nur mit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Verdana"/>
              </a:rPr>
              <a:t>einem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Prozessor arbeit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Einsatz mehrerer Thread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7772400" cy="53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ann kann man mehrere Threads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Verdana"/>
              </a:rPr>
              <a:t>sinnvoll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einsetzen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Bei intensiven, mathematischen Berechnung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Grafik-Algorithm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rucker-Ausgab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ufräumarbeiten im Hintergrun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Übertragen von Daten im Hintergrun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Flüssige“ UI-Applikationen (ohne Sanduhr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.....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54644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Kleine Warnu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48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ie Programmierung von Applikationen mit mehreren Threads ist komplizier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bugging, Fehlersuche, Test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ynchronisieru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Ordentliches Beenden von Threa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Fehlerbehandlu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arameterübergab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aubere Planung und Prioritätenvergab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26716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Vorab-Analys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34696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evor man mehrere Threads programmiert, sollte man prüfe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st eine saubere Abtrennung der Aufgaben des Threads möglich?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st eine vernünftige Datenübergabe möglich?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Kann die Applikation überhaupt andere Aufgaben ausführen, wenn der zusätzliche Thread läuft?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uss im neuen Thread auf Resourcen zugegriffen werden, die sowieso schon blockiert sind?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5152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Thread-Typ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Unterscheidung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Hintergrund-Threa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rden automatisch beendet, wenn der Haupt-Thread beendet wi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nwendungen: Aufräumarbeiten, langwierige Berechnu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Vordergrund-Threa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er Haupt-Thread wartet, bis alle anderen Vordergrund-Threads beendet si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nwendungen: Eigener Thread für ein Fen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teuerung mit Property „Thread.IsBackground“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90680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Erzeugung von Thread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Worker-Thread mit statischen Method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ThreadStart-Klasse zeigt auf die Thread-Funk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Thread-Klasse erlaubt die Steuerung des Thread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Thread.Join wartet auf den Threa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Thread.Join geht auch mit einem Timeou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39852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bfrage, ob Timeout, ist mögli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st der Thread gestartet mit „IsAlive“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Bedeutet nicht, dass der Thread auch läuf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6716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Problem mit 2 Thread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5344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 typisches Sychronisierungsproblem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Zwei Threads sollen quasi-gleichzeitig die Fläche unter der Kurve berechn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chtung: Es gibt nur eine Variable „dSum“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Statischer Kontext des Threa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Falsches Rechenergebnis!!!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as Verhalten mit statischen Variablen kann aber auch erwünscht sein, z.B. Zählen von Threa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69116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Erzeugung von Thread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77724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Thread-Methoden in instanzierten Klass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orteil: Datenübergabe ist kein Problem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Jeder Thread hat seine eigene Instanz der Thread-Klass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Nachteil: Diese Vorgehensweise kostet etwas mehr Resourc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erformance und Speich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2280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Parameterübergab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lle Variablen werden als „private“ in der Thread-Klasse deklarier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s gibt eine spezielle Funktion in der Thread-Klasse, welche..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...die Daten übernimm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...das Thread-Objekt erzeugt und zurückgib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as Rechenergebnis wird über ein Property der Thread-Klasse abgefrag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führu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rzeugung von Thread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arameterübergabe, Performanc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teuerung von Thread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riority, Suspend, Resume, Abor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buggi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ynchronisieru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r Thread-Poo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OpenM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Zusammenfassu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90680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Steuerung von Thread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rioritäten-Vergabe mit Thread.Priorit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uspend und Resum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WIN32: n x Suspend = n x Resu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.NET: n x Suspend = 1 x Resu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bor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an muss feststellen können, ob der Thread seine Arbeit beendet h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39852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öglichkeit: Bool‘sche 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39852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bfrage über Proper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Steuerung von Thread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9680" y="1338120"/>
            <a:ext cx="853308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ann hält der Thread an, wenn ein Abort-Befehl kommt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m Normalfall wird der Thread NICHT sofort stehenbleib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ngle-Prozessor-Maschine: Beendigung der Zeitscheibe des laufen den Threa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ie Runtime steuert einen sog. „Safe-Point“ 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as gilt auch bei „Suspend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m „Safe-Point“ hat der Garbage-Collector die volle Kontrolle über das Thread-Objek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Wenn „unmanaged“ Code ausgeführt wird, muss dieser erst beendet werd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62752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Steuerung von Thread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ei „Abort“ wird immer eine ThreadAbortException geworf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n der Thread-Prozedur wird die Exception gefangen und es kann „aufgeräumt“ werd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55480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ebugging / Fehlersuch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bugging mit VS .NET möglich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Liste aller Threads über „Debug &gt; Windows &gt; Threads“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Einfrieren eines Threads möglic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Bestimmten Thread weiterlaufen lass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Zeilenweise Debugg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bugging von MT-Applikationen ist evtl. sehr mühseli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Tests sind aufwändig, da man alle parallelen Zustände (durch Threads) irgendwie testen „sollte“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ebugging / Fehlersuch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0010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Zuerst möglichst viel ohne Multi-Threading test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Z.B.: mathematische Algorithm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ann erst die Softwareteile in die MT-Applikation einfüg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Nun kann man den Synchronisierungs-Code test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erfahren ist nicht immer möglic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Unbedingt mit Mehrprozessor-Rechnern testen!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2280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Synchronisieru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777240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ie Synchronisierung soll den Zugriff auf begrenzte Resourcen des Rechners steuern, wenn mehrere Threads benutzt werd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Variablen (RAM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odetei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LPT-, COM- und USB-Schnittstell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48316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Synchronisieru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e Synchronisierung beinhaltet immer die Gefahr eines „Deadlocks“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755640" y="3141720"/>
            <a:ext cx="2952720" cy="295128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44"/>
                </a:solidFill>
                <a:latin typeface="Tahoma"/>
              </a:rPr>
              <a:t>Thread A wart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44"/>
                </a:solidFill>
                <a:latin typeface="Tahoma"/>
              </a:rPr>
              <a:t>auf 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44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5219640" y="3141720"/>
            <a:ext cx="3024360" cy="295128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44"/>
                </a:solidFill>
                <a:latin typeface="Tahoma"/>
              </a:rPr>
              <a:t>Thread B hat 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44"/>
                </a:solidFill>
                <a:latin typeface="Tahoma"/>
              </a:rPr>
              <a:t>Resource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44"/>
                </a:solidFill>
                <a:latin typeface="Tahoma"/>
              </a:rPr>
              <a:t>Benutz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44"/>
                </a:solidFill>
                <a:latin typeface="Tahoma"/>
              </a:rPr>
              <a:t>Thread B wart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44"/>
                </a:solidFill>
                <a:latin typeface="Tahoma"/>
              </a:rPr>
              <a:t>auf Thread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067280" y="3141720"/>
            <a:ext cx="792000" cy="718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7"/>
          <p:cNvSpPr/>
          <p:nvPr/>
        </p:nvSpPr>
        <p:spPr>
          <a:xfrm flipH="1" flipV="1">
            <a:off x="4500360" y="3429000"/>
            <a:ext cx="1439640" cy="7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 flipV="1">
            <a:off x="2411280" y="3500280"/>
            <a:ext cx="1584360" cy="4334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9"/>
          <p:cNvSpPr/>
          <p:nvPr/>
        </p:nvSpPr>
        <p:spPr>
          <a:xfrm flipH="1" flipV="1">
            <a:off x="2987280" y="5229360"/>
            <a:ext cx="2592360" cy="287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48316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Synchronisieru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Objekte für die Synchronisieru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onito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utex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emaphoren (Framework 2.0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ven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nterlock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WaitHand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ReaderWriterLock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m .NET-Framework gibt es Klassen für diese Synchronisations-Objek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Gleichzeitiger Code-Zugriff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43912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erhinderung des gleichzeitigen Code-Durchlaufs mit Monitor-Objek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ynchronisierung eines bestimmten Code-Bereiches, so dass nur ein Thread den Code benutz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ndere Threads müssen warten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as Monitor-Objekt kann nur innerhalb eines Prozesses verwendet werd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Zugriff auf eine Variable kann mit einem Monitor-Objekt gesteuert werd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76244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Gleichzeitiger Code-Zugriff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ei Monitor: Angabe des Objektes, das geschützt werden sol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CHTUNG bei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Normalen Value-Typen (int, double, structs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tring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Hier funktioniert der Monitor nich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Wegen Boxing/Unbox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Wegen neuer String-Referenzen (wenn mit dem String etwas „gemacht“ wurde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Einführu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6044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isher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440" indent="-46044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lle 2-3 Jahre wurden die CPU‘s doppelt so schnel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93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avon haben unsere Programme automatisch etwa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93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utlich sichtbar bei mathematischen Berechnungen, weniger sichtbar bei UI-Angelegenheit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440" indent="-46044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erformance-optimiertes Programmieren wird in Zukunft immer wichtiger werden!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205920"/>
            <a:ext cx="467964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Synchronisierung mit Mutex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9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as Mutex-Objekt funktioniert in .NET wie in WIN3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ünner Klassen-Wrapper über der Win32-AP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s ist prozessübergreifend einsetzba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urch Festlegen eines Name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arum ist das Mutex-Objekt langsamer, als ein Monitor-Objek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5480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tomare“ Anweisung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777240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iele Befehle dürfen nicht unterbrochen werd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nterlocked“-Klasse garantiert die vollständige Ausführung bestimmter Grundbefehle, wenn mehrere Threads auf die Variablen zugreifen könne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nc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c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xchang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ompareExchang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48316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eginInvoke(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9680" y="1338120"/>
            <a:ext cx="8533080" cy="40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ginInvoke” bereitet den Methodenaufruf vor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icht Werte- und Referenzparameter weit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tzt übergebenen Callback auf (optional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icht Statusobjekt durch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ibt IAsyncResult zurück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gnatur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84360" y="4221000"/>
            <a:ext cx="6975360" cy="131364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07932" dir="2700000" blurRad="0" rotWithShape="0">
              <a:srgbClr val="0000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Lucida Console"/>
              </a:rPr>
              <a:t>IAsyncResult BeginInvoke( </a:t>
            </a:r>
            <a:br>
              <a:rPr sz="2000"/>
            </a:br>
            <a:r>
              <a:rPr b="1" lang="en-US" sz="2000" spc="-1" strike="noStrike">
                <a:solidFill>
                  <a:srgbClr val="000044"/>
                </a:solidFill>
                <a:latin typeface="Lucida Console"/>
              </a:rPr>
              <a:t>                   &lt;paramListe der Methode&gt;,</a:t>
            </a:r>
            <a:br>
              <a:rPr sz="2000"/>
            </a:br>
            <a:r>
              <a:rPr b="1" lang="en-US" sz="2000" spc="-1" strike="noStrike">
                <a:solidFill>
                  <a:srgbClr val="000044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44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44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44"/>
                </a:solidFill>
                <a:latin typeface="Lucida Console"/>
              </a:rPr>
              <a:t> AsyncCallback aDelegate,</a:t>
            </a:r>
            <a:br>
              <a:rPr sz="2000"/>
            </a:br>
            <a:r>
              <a:rPr b="1" lang="en-US" sz="2000" spc="-1" strike="noStrike">
                <a:solidFill>
                  <a:srgbClr val="000044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44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44"/>
                </a:solidFill>
                <a:latin typeface="Lucida Console"/>
              </a:rPr>
              <a:t>       object sta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83552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dInvoke(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hließt die Operation ab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est alle Ausgabe- und Referenzparameter au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rd auf IAsyncResult aus BeginInvoke() angewend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efert den Rückgabewert der aufgerufenen Meth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ann in rufender Methode oder dem Callback aufgerufen werd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900000" y="4724280"/>
            <a:ext cx="6975720" cy="70380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07932" dir="2700000" blurRad="0" rotWithShape="0">
              <a:srgbClr val="0000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Lucida Console"/>
              </a:rPr>
              <a:t>bool EndInvoke(&lt;paramListe der Methode&gt;,</a:t>
            </a:r>
            <a:br>
              <a:rPr sz="2000"/>
            </a:br>
            <a:r>
              <a:rPr b="1" lang="en-US" sz="2000" spc="-1" strike="noStrike">
                <a:solidFill>
                  <a:srgbClr val="000044"/>
                </a:solidFill>
                <a:latin typeface="Lucida Console"/>
              </a:rPr>
              <a:t>               AsyncCallback aDelega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1516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er .NET-Thread-Poo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38836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Ziel: Möglichst einfaches Arbeiten mit mehreren Threa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Optimal für Threads, die lange Zeit auf etwas wart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Optimal für Threads, die periodisch erweckt werd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er Thread-Pool stellt “fertige” Threads bereit, die genutzt werden könn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m Thread-Pool werden mehrere Threads für den Benutzer bereit gehalt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ufruf aus dem Thread-Pool ist schneller, als die normale Thread-Erzeugu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er .NET-Thread-Poo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chtung: Man kann nur eine bestimmte Anzahl von Pool-Threads nutz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bfrage, wieviele Threads sind maximal möglich: ThreadPool.GetMaxThrea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bfrage, wieviele Threads sind jetzt noch möglich: ThreadPool.GetAvailableThrea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Wird versucht, mehr Threads als erlaubt, zu erzeugen, so landen die überzähligen Threads in einer Warteschlang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roperty „IsThreadPoolThread“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8644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er .NET-Thread-Poo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3272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ystemkonzept: Pro Prozess gibt es einen ThreadPoo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nforderungen an den Pool werden über eine Warteschlange gestell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uss eine Anforderung länger als eine halbe Sekunde warten, wird neuer Pool-Thread erzeug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ird Pool-Thread 30 Sekunden nicht benötigt, wird Thread aus dem Pool entfer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69116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er .NET-Thread-Poo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8720" indent="-55872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ie .NET-Runtime benutzt den Thread-Pool ebenfalls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4172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synchrone Aufruf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4172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ocket-Verbindung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4172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/O-Completion Por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4172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Tim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8720" indent="-55872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enutzung eines Pool-Threads mit ThreadPool.QueueUserWorkItem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4172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Von unmanaged Code: CorQueueUserWorkIte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47516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er .NET-Thread-Poo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38836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8720" indent="-55872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Jeder Pool-Thread bekommt einen Standard-Stack, die Standard-Priorität und läuft im MT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8720" indent="-55872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ann sollte man den Thread-Pool nicht benutzen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4172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Wenn der Thread eine bestimmte Priorität haben sol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4172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Wenn der Thread lange Zeit laufen soll und evtl. andere Threads blockieren kan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4172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Wenn man den Thread immer genau identifizieren will (zur Steuerung,…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9916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OpenMP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164960"/>
            <a:ext cx="8532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Normales Multithreading beinhaltet einen relativ großen Overhea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nsbesondere wenn Algorithmen parallelisiert werden soll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n OpenMP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teuerung der Parallelisierung durch C++-Pragma im C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Z.B.: </a:t>
            </a: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#pragma omp parall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teueranweisung stehen direkt im C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it nativem und mit managed Co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Compiler-Schalter: </a:t>
            </a:r>
            <a:r>
              <a:rPr b="1" lang="de-DE" sz="2400" spc="-1" strike="noStrike">
                <a:solidFill>
                  <a:srgbClr val="000066"/>
                </a:solidFill>
                <a:latin typeface="Lucida Console"/>
              </a:rPr>
              <a:t>/OPENM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Einführu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Rectangle 756738" descr=""/>
          <p:cNvPicPr/>
          <p:nvPr/>
        </p:nvPicPr>
        <p:blipFill>
          <a:blip r:embed="rId1"/>
          <a:stretch/>
        </p:blipFill>
        <p:spPr>
          <a:xfrm>
            <a:off x="776160" y="1068480"/>
            <a:ext cx="5000760" cy="5580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56739"/>
          <p:cNvSpPr/>
          <p:nvPr/>
        </p:nvSpPr>
        <p:spPr>
          <a:xfrm>
            <a:off x="6022440" y="5411880"/>
            <a:ext cx="25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Intel Clock Spe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Quelle: Intel, Wikiped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5480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OpenMP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8533080" cy="36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s gibt unterschiedliche Arten der Parallelisierung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arallelisierung von Schleif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arallelisierung von Code-Region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Nicht zu vergesse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ynchronisieru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77044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Schleifen mit OpenMP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5327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chleifen werden auf mehrere Threads automatisch aufgeteil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nzahl kann angegeben werden oder ist vom System vorgegeben oder wird dynamisch ausgewähl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68360" y="3357720"/>
            <a:ext cx="8497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void saxpy(double z[], double a, double x[], double y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           </a:t>
            </a: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int 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#pragma omp parallel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  </a:t>
            </a: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for(int i = 0; i &lt; n; i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  </a:t>
            </a: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    </a:t>
            </a: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z[i] = a * x[i] + y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  </a:t>
            </a: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WordArt 5"/>
          <p:cNvSpPr txBox="1"/>
          <p:nvPr/>
        </p:nvSpPr>
        <p:spPr>
          <a:xfrm>
            <a:off x="6300720" y="5661000"/>
            <a:ext cx="2657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penMP_Loop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Line 2"/>
          <p:cNvSpPr/>
          <p:nvPr/>
        </p:nvSpPr>
        <p:spPr>
          <a:xfrm>
            <a:off x="1763640" y="1268280"/>
            <a:ext cx="0" cy="172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3"/>
          <p:cNvSpPr/>
          <p:nvPr/>
        </p:nvSpPr>
        <p:spPr>
          <a:xfrm>
            <a:off x="1763640" y="3068640"/>
            <a:ext cx="16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5152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Schleifen mit OpenMP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1763640" y="306864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340000" y="306864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2916360" y="306864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419640" y="306864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9"/>
          <p:cNvSpPr/>
          <p:nvPr/>
        </p:nvSpPr>
        <p:spPr>
          <a:xfrm>
            <a:off x="1763640" y="4221000"/>
            <a:ext cx="0" cy="187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1763640" y="4221000"/>
            <a:ext cx="16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2049840" y="2133720"/>
            <a:ext cx="4793760" cy="3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Serielle Ausführung im Master-Thr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2122920" y="4797360"/>
            <a:ext cx="4793760" cy="3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Serielle Ausführung im Master-Thr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3853080" y="3429000"/>
            <a:ext cx="2743920" cy="3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Parallele Ausfüh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3852000" y="4005360"/>
            <a:ext cx="4101840" cy="3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Automatische Synchronisie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Schleifen mit OpenMP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32720" cy="18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Häufig braucht man „Reduktionen“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s gibt mehrere Threads mit eigenen z-Variablen, die dann zum Schluss zum Endergebnis addiert werd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71640" y="2781360"/>
            <a:ext cx="7632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double test(double x[], int 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  </a:t>
            </a: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double z = 0.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  </a:t>
            </a: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#pragma omp parallel for reduction(+:z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  </a:t>
            </a: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for(int i = 1; i &lt; n; i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  </a:t>
            </a: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    </a:t>
            </a: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z += x[i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  </a:t>
            </a: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  </a:t>
            </a: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return z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5148360" y="5589720"/>
            <a:ext cx="3695760" cy="64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penMP_Reduk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48316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Variablen und Scop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8533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enn mehrere Threads erzeugt werden, gibt es zwei Variablen-Arte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private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: Jeder Thread hat eine eigene Instanz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shared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: Es gibt nur eine Instanz für alle Threa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aufvariablen von Schleifen sind automatisch „</a:t>
            </a:r>
            <a:r>
              <a:rPr b="1" lang="de-DE" sz="2400" spc="-1" strike="noStrike">
                <a:solidFill>
                  <a:srgbClr val="000066"/>
                </a:solidFill>
                <a:latin typeface="Lucida Console"/>
              </a:rPr>
              <a:t>private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“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Kann man steuer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39640" y="4653000"/>
            <a:ext cx="79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#pragma omp parallel for shared(a, b) private(i, j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6716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Code-Sektion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8840" y="1157040"/>
            <a:ext cx="838836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it OpenMP kann man auch unterschiedliche Code-Bereiche parallel laufen lass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68360" y="2205000"/>
            <a:ext cx="8497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#pragma omp s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#pragma omp s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... // Code-Block #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#pragma omp s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... // Code-Block #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6300720" y="5157720"/>
            <a:ext cx="201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moOMP2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Code-Sektion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7400" y="1092240"/>
            <a:ext cx="8388360" cy="19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ei parallelen Code-Sektionen ist oft eine Synchronisierung erforderlic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chtung beim Aufruf von Methoden aus parallelen Code-Sektion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826920" y="2781360"/>
            <a:ext cx="7886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double a = 0.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#pragma omp s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#pragma omp s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TestMethod1(&amp;a); // Was ist hier gewoll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#pragma omp s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TestMethod2(&amp;a); // Was ist hier gewoll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Synchronisieru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53272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st fast immer irgendwo erforderlich, wenn mehrere Threads lauf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barri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critica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critical(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atomi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peratoren: +  -  ++  --  *  /  &amp;  ^  |  &lt;&lt;  &gt;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mast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Lucida Console"/>
              </a:rPr>
              <a:t>flush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Runtime-Lock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ynchronisierung kostet Zeit!!!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91516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OpenMP-Library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9680" y="1337760"/>
            <a:ext cx="85330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s gibt diverse Runtime-Methoden in der OpenMP-Bibliothek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ax. Anzahl der Threads setzen oder abfrag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nzahl der vorhandenen Prozessoren abfrag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Rückgabe einer eindeutigen Thread-Numm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7044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OpenMP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53272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as hört sich ja sehr einfach an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s kann aber auch sehr kompliziert werd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as sprengt aber den Rahmen hier!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orsicht beim Programmieren mit mehreren Threads ist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Verdana"/>
              </a:rPr>
              <a:t>IMMER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wichti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mmer die Performance prüf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mmer die Ergebnisse prüf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OpenMP ist gut für Algorithm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OpenMP ist nicht gut für die Parallelisierung von User Interfac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Einführu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6044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rozessor-Takt bleibt bei 3 – 4 GHz steh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93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ehr geht nicht: Kühlung wird schwieri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93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igentlich müssten unsere CPU‘s jetzt ca. 10 GHz könn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440" indent="-46044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nzahl der Transistoren auf einem Chip steigt aber weiter 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93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Resultat: Multi-Core CPU‘s kommen immer stärk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93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ehrere CPU‘s auf einem Chip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5480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Zusammenfassu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38836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8720" indent="-55872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ultiple Threading ist mit .NET etwas einfacher geword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8720" indent="-55872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ultiple Threading ist nicht mehr abhängig von einer bestimmten Programmiersprach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8720" indent="-55872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Bevor man losleg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41724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nalyse, ob MT wirklich benötigt wir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8720" indent="-55872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bugging und Testen ist schwierig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8720" indent="-55872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ode wird etwas aufwändiger (z.B. durch Synchronisierung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8720" indent="-55872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uch sehr wichtig für „Sanduhr-freie“ Applikationen mit User-Interfac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8720" indent="-55872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OpenMP ist gut für Algorithm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Q&amp;A-sl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1440" y="1409760"/>
            <a:ext cx="8372520" cy="75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ragen und Antwort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Einführu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6044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rogrammierung für Multi-Core CPU‘s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93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ulti-Processing (gibt uns das Betriebssystem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93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ulti-Threading (müssen wir im Moment noch selbst programmieren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440" indent="-46044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ir müssen unsere Programme anpassen, sonst haben wir nichts von dem Multi-Core CPU‘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440" indent="-46044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erformance-Überlegungen „kommen also wieder in Mode“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9916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Einführu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777240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ulti-Threading kommt jetzt aus der .NET-Runtim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s ist kein Sprach-Feature (wie z.B. in C++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Jede .NET-Sprache kann Multi-Thread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m .NET-Framework gibt es mehrere Klassen, die das Arbeiten mit Threads sehr vereinfach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39852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iehe: Thread, ThreadStart , ThreadPool, Monitor, Mutex, Interlocked,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as ist ein Thread?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7772400" cy="52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 Programm besteht mindestens aus einem Thread, dem Haupt-Threa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Wird vom Betriebssystem gestart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 Thread ist ein „Ausführungsweg“ im Programm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in Thread führt ganz bestimmte Befehle nacheinander au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n einem Programm können mehrere unabhängige Threads existier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Kontrollflus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9680" y="1338120"/>
            <a:ext cx="853308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ynchrone Abarbeitu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synchrone Abarbeitu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539640" y="1916280"/>
          <a:ext cx="7851960" cy="19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7851960" cy="1936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12:10:30Z</dcterms:created>
  <dc:creator>DATACOM</dc:creator>
  <dc:description/>
  <dc:language>en-US</dc:language>
  <cp:lastModifiedBy>Bernd</cp:lastModifiedBy>
  <dcterms:modified xsi:type="dcterms:W3CDTF">2007-05-23T06:48:43Z</dcterms:modified>
  <cp:revision>81</cp:revision>
  <dc:subject/>
  <dc:title>Neue Wege in der Telekommunikation</dc:title>
</cp:coreProperties>
</file>